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7CD6-FC55-4E1D-9ED6-F3DCC2EAED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B6B5-11C7-4A9A-B882-1A05DD2D17D0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AB67-99DF-4B52-AB9A-310055F0AF35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62FD-D9E9-4F16-8F3E-B9859F6E172C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0AD7-3A6F-48E9-A92A-98D52555B9C7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2F48-47D0-4770-9F60-142A12A38965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F708-F0F4-45A9-A071-31F950C76DCD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73BA-D499-4F03-97C3-E149952D99FA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0673-7479-4C74-9E00-D89300D39AC2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E8D1-7D86-4DD6-AD9B-75A2296F5339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3BE6-2F46-4F0B-91A8-366C6A9C2968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A0F5-B3D5-43FB-A535-05DF4A8A5BED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A263-6476-412F-9D9C-30C4A2CE815E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8892-CEC3-4090-9D1D-12A8C7E34F6F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1E1D-58D6-4420-BE41-CBCC1D011A59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095F-D1B0-4772-8659-7F15E31E56AE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6E3F-0CBB-426A-996E-9AB188D9A0E4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972B-0E0F-42AA-A157-7068A28992A5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7E1E-3E84-43F5-B598-9E91F7289B98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330D-9ECC-4851-8169-2252E4A68373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234-03E8-47D3-8FDF-DBCC3798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DC0-FC37-4EE9-A36C-7A639217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589-8620-424A-953F-D484E422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92F-225E-4235-B193-16E4B61B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E192-E436-421E-94AA-58D4AE69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40E1-7133-465B-B196-2B8B28F1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A252-ACA3-42D7-ABAD-B1B7F894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D627-DF2E-4EBE-A1E4-DE73387D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173E-88F4-4812-9B36-8743A916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172B-F382-4042-A835-FA610091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4D1B-4805-41ED-A5FB-F1F2E390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D79-8472-423D-AAEE-2132B0F3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100B-74A8-4A18-9F04-2397D888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0864-1354-4F1E-9BCA-9F3A01D5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3861-94F4-446D-86A4-ACB768EB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2738-EFDA-4E59-905C-1BDF531B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5348-2525-4DD8-906F-094913C7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571-026C-4A27-8211-F3E3157E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620-EF96-4A65-AE48-FA61C366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127-4645-49AC-A759-BCF3A8EF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5F6-B07F-4D02-B4FB-5664805D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1BF-3546-4216-87D8-5E56C806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044-76F6-4BA2-8E6D-CB84BFA8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638-EF83-48FC-9FF1-4B1E553B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3249-D370-4D10-82AD-C281604B6B33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D73A-F920-491A-9119-D0BB90DFFF46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oblomov.omsk.edu/win/geroi/oblomov" TargetMode="External"/><Relationship Id="rId3" Type="http://schemas.openxmlformats.org/officeDocument/2006/relationships/hyperlink" Target="http://oblomov.omsk.edu/win/geroi/shtol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2680" y="1356840"/>
            <a:ext cx="6234120" cy="160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42f00"/>
                </a:solidFill>
                <a:latin typeface="Times New Roman"/>
              </a:rPr>
              <a:t>ОБЛОМОВ И ШТОЛЬЦ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5" descr="BS00554_"/>
          <p:cNvPicPr/>
          <p:nvPr/>
        </p:nvPicPr>
        <p:blipFill>
          <a:blip r:embed="rId1"/>
          <a:stretch/>
        </p:blipFill>
        <p:spPr>
          <a:xfrm>
            <a:off x="6156360" y="4508640"/>
            <a:ext cx="2376360" cy="2073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95280" y="189000"/>
          <a:ext cx="8569440" cy="6476760"/>
        </p:xfrm>
        <a:graphic>
          <a:graphicData uri="http://schemas.openxmlformats.org/drawingml/2006/table">
            <a:tbl>
              <a:tblPr/>
              <a:tblGrid>
                <a:gridCol w="4286160"/>
                <a:gridCol w="4283280"/>
              </a:tblGrid>
              <a:tr h="1330560">
                <a:tc grid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Воспитание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433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Я – барин, и делать      ничего не умею.”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Обломовка-идеал жизни. Любовь и        ласка родных.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“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трудовое, практи-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ческое воспитание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“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некому благосло-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вить”; возможность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самостоятельно определить свою дорогу жизни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42560"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Антипод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836640"/>
          <a:ext cx="9144000" cy="5769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Цель жизни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8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66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   “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поэтический идеал жизни;” цель была -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  “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вся жизнь есть мысль и труд”;   Сейчас:”Какая у меня цель? Нет её.”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Нет высокой цели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труд-цель жизни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жизнь Штольца с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точки зрения Обло-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мова :”ежедневная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пустая перетасовка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дней.”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Нет высокой цели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26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Двойник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798480"/>
          <a:ext cx="9144000" cy="60595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13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Содержание деятельности</a:t>
                      </a: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Составление плана переустройства поместья; “вулканическая работа пылкой головы”;  “не привык к движению.”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Лишних движений у него не было”;”ехал посидеть на широком диване Обломова и отвести и успокоить встревоженную или усталую душу…”пустая су-ета, в итоге-“как будто жил вторично</a:t>
                      </a:r>
                      <a:r>
                        <a:rPr b="0" lang="en-US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16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Двойник в большей степени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692280"/>
          <a:ext cx="9144000" cy="5976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3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Отношение к женщине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“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не был их рабом, поклонялся издали”;”признавал е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власть и права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женщина-мать и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никогда - любовница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Сама жизнь и труд есть цель жизни, а не женщина”;”он не хотел бы порывистой страсти, как не хотел её Обломов”; “ему грезилась мать - созида-тельница”; “не был рабом, не испытывал огненных радостей</a:t>
                      </a:r>
                      <a:r>
                        <a:rPr b="0" lang="en-US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ru-RU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.</a:t>
                      </a:r>
                      <a:endParaRPr b="0" lang="en-US" sz="2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42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Двойни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04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Семейная жизнь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8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Жена, дети, добрые соседи, хлопоты по хозяйству – это в мечтах; “ему некуда больше идти, нечего искать, идеал его жизни осуществился, хотя без поэзии”-жизнь с Пшеницыной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“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астала и тишина,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улеглись и порывы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“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сё как мечтал и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Обломов.” Устроенный Штольцем тихий уголок на крымском берегу напоминает старую Обломовку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Двойник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728640"/>
          <a:ext cx="9144000" cy="61293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14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Жизненная позиция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“…</a:t>
                      </a:r>
                      <a:r>
                        <a:rPr b="0" lang="ru-RU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душа не рвётся, ум спит спокойно.</a:t>
                      </a:r>
                      <a:r>
                        <a:rPr b="0" lang="en-US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ru-RU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</a:t>
                      </a:r>
                      <a:endParaRPr b="0" lang="en-US" sz="4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30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мы не титаны…мы не пойдём на дерзкую борьбу с мятежными вопросами, не примем их вызова, склоним головы и  смиренно переживем трудную минуту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15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Двойни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Линия отношений Обломова и Штольца (в форме графика)"/>
          <p:cNvPicPr/>
          <p:nvPr/>
        </p:nvPicPr>
        <p:blipFill>
          <a:blip r:embed="rId1"/>
          <a:stretch/>
        </p:blipFill>
        <p:spPr>
          <a:xfrm>
            <a:off x="2195640" y="836640"/>
            <a:ext cx="4752720" cy="305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1547640" y="3933720"/>
          <a:ext cx="6840720" cy="2743200"/>
        </p:xfrm>
        <a:graphic>
          <a:graphicData uri="http://schemas.openxmlformats.org/drawingml/2006/table">
            <a:tbl>
              <a:tblPr/>
              <a:tblGrid>
                <a:gridCol w="2279880"/>
                <a:gridCol w="2281320"/>
                <a:gridCol w="2279520"/>
              </a:tblGrid>
              <a:tr h="36828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2"/>
                        </a:rPr>
                        <a:t>Обломов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3"/>
                        </a:rPr>
                        <a:t>Штольц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</a:tr>
              <a:tr h="146556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Добрый, мягки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гостеприимны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чувствительный, чуткий.</a:t>
                      </a:r>
                      <a:br>
                        <a:rPr sz="1800"/>
                      </a:br>
                      <a:r>
                        <a:rPr b="0" i="1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Ленивый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Откровенный, холодны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активный, разумны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сдержанный.</a:t>
                      </a:r>
                      <a:br>
                        <a:rPr sz="1800"/>
                      </a:br>
                      <a:r>
                        <a:rPr b="0" i="1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Деятельный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</a:tr>
              <a:tr h="916920"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Идеальным человеком принято считать того, у кого доминирующие качества не слишком ярко выражены (не доставляют проблем окружающим).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3"/>
          <p:cNvSpPr/>
          <p:nvPr/>
        </p:nvSpPr>
        <p:spPr>
          <a:xfrm>
            <a:off x="4481640" y="-412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10920" y="691920"/>
            <a:ext cx="81565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Обломов и Штольц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— люди с разным мировосприятием, а следовательно, и разными судьбами. Главное их отличие в том, что деятельный, энергичный Штольц сумел правильно распорядиться своей жизнью и природными талантами, пытаясь «донести сосуд жизни до последнего дня, не пролив ни одной капли напрасно». А у мягкого, доверчивого Обломова не хватало силы воли противостоять трудностям жизни и отстаивать свое право на существование и самореализацию. Он «свое уменье затерял еще в детстве, в Обломовке, среди теток, нянек и дядек. Началось с неуменья надевать чулки и кончилось неуменьем жить»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Picture 2" descr="Кадр из фильма А. А. Адабашьяна и Н. С. Михалкова «Несколько дней из жизни И. И. Обломова». 1979-80"/>
          <p:cNvPicPr/>
          <p:nvPr/>
        </p:nvPicPr>
        <p:blipFill>
          <a:blip r:embed="rId1"/>
          <a:stretch/>
        </p:blipFill>
        <p:spPr>
          <a:xfrm>
            <a:off x="2627280" y="3789360"/>
            <a:ext cx="4286160" cy="29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68360" y="1267920"/>
            <a:ext cx="8370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b5249"/>
                </a:solidFill>
                <a:latin typeface="Times New Roman"/>
              </a:rPr>
              <a:t>Вывод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бломов и Штольц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– это два человека, которые друг без друга существовать не могут. Они дополняют друг друга своими как отрицательными, как и положительными качествами. Их судьбы похожи, они не могут найти свое место в жизн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55640" y="907560"/>
            <a:ext cx="777240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“</a:t>
            </a: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Штольц на высокой ступени своей активной жизни оказывался тем же Обломовым…”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0" lang="en-US" sz="4800" spc="-1" strike="noStrike">
                <a:solidFill>
                  <a:srgbClr val="a40400"/>
                </a:solidFill>
                <a:latin typeface="Times New Roman"/>
              </a:rPr>
              <a:t>(</a:t>
            </a: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Я.И.Кулешов.)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Цель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ыяснить причины столь крепкой дружбы между двумя совершенно противоположными героям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000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ать описание главных героев романа И.А. Гончарова «Обломов»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найти различные и схожие черты этих героев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составить схему взаимоотношений Обломова и Штольца на протяжении развития действия  романа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лья Ильич Облом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413000"/>
            <a:ext cx="822816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мещик, дворянин, живущий в Петербурге. Ведёт ленивый образ жизни, не занимаясь ничем, кроме рассуждений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Жизнь есть поэзия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Кого не любишь, кто не хорош, с тем не обмакнёшь хлеба в солонку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Всё знаю, всё понимаю - но силы и воли нет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Трудно быть умным и искренним в одно время, особенно в чувстве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Страсть надо ограничить: задушить и утопить в женитьбе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280" y="907920"/>
            <a:ext cx="81550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Жизнь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Цель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рожить жизнь счастливо; так, чтобы она “не трогала”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Восприятие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колеблющееся — от “приятного дара для наслаждения” до “пристает как забияки: то ущипнет исподтишка, то вдруг нагрянет прямо со лба и обсыплет песком… мочи нет!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Принципы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делать, что душа и сердце пожелает, даже если разум против; никогда не утруждаться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Любовь.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 Никогда не была главной в его жизни, даже в истории с Ольгой она быстро угасла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Дружба.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Еще в юности “холодно простился с толпой друзей”. Есть знакомые, но нет ни одного настоящего друга, кроме Штольца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Отношения с окружающими.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 Мало кому известен, имеет очень узкий круг общения. Сам практически никого не знает. Тем не менее, имеет знакомых, пытающихся вытащить его в свет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Больше всего боялся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 всего трудного и труднодостижимого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http://www.stihi.ru/pics/2010/05/08/4169.jpg"/>
          <p:cNvPicPr/>
          <p:nvPr/>
        </p:nvPicPr>
        <p:blipFill>
          <a:blip r:embed="rId1"/>
          <a:stretch/>
        </p:blipFill>
        <p:spPr>
          <a:xfrm>
            <a:off x="4356000" y="2637000"/>
            <a:ext cx="4530960" cy="4005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www.libvrn.ru/OZ/Graphic/book/01_2.jpg"/>
          <p:cNvPicPr/>
          <p:nvPr/>
        </p:nvPicPr>
        <p:blipFill>
          <a:blip r:embed="rId2"/>
          <a:stretch/>
        </p:blipFill>
        <p:spPr>
          <a:xfrm>
            <a:off x="250920" y="1052640"/>
            <a:ext cx="4189320" cy="580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www.proza.ru/pics/2009/05/06/855.jpg"/>
          <p:cNvPicPr/>
          <p:nvPr/>
        </p:nvPicPr>
        <p:blipFill>
          <a:blip r:embed="rId3"/>
          <a:stretch/>
        </p:blipFill>
        <p:spPr>
          <a:xfrm>
            <a:off x="0" y="0"/>
            <a:ext cx="5554800" cy="348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http://www.taday.ru/data/170/641/1234/19390_Oblomov_CD2_02.jpg"/>
          <p:cNvPicPr/>
          <p:nvPr/>
        </p:nvPicPr>
        <p:blipFill>
          <a:blip r:embed="rId4"/>
          <a:stretch/>
        </p:blipFill>
        <p:spPr>
          <a:xfrm>
            <a:off x="5003640" y="0"/>
            <a:ext cx="4140360" cy="3573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Штольц Андрей Иванович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915920"/>
            <a:ext cx="813744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руг детства Обломова, наполовину немец, практичный и деятельный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b5249"/>
                </a:solidFill>
                <a:latin typeface="Times New Roman"/>
              </a:rPr>
              <a:t>Это не жизнь, это какая-то... обломовщина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 (ч.2, гл.4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b5249"/>
                </a:solidFill>
                <a:latin typeface="Times New Roman"/>
              </a:rPr>
              <a:t>Труд - образ, содержание, стихия и цель жизни. По крайней мере, моей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36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74760" indent="-374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Жизн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Цель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: “труд — образ, содержание, стихия и цель жизни, по крайней мере моей”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Восприятие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: жизнь — счастье в труде; жизнь без работы — не жизнь; «…“жизнь трогает!” “И слава богу!” — сказал Штольц»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Принципы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: иметь “простой, то есть прямой, настоящий взгляд на жизнь — вот что было его постоянною задачею…”,“Выше всего он ставил настойчивость в достижении целей…”, “…измерит бездну или стену, и если нет верного средства одолеть, он отойдет”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Любовь.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Штольц любил не сердцем, а разумом, в каждом движении души и сердца искал рациональное объяснение. Поэтому и в молодости “среди увлечения чувствовал землю под ногой”, так как везде искал ум, а не страсть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Дружба.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Друзей у Штольца всегда и везде было много — люди тянулись к нему. Но он чувствовал близость только к людям-личностям, искренним и порядочным. Действительно, настоящих друзей, таких как Илья Ильич и Ольга Сергеевна, у него было не так уж и много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Отношения с окружающими.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Все знают его, он знает всех. Он никого не оставляет к себе равнодушным — его или уважают и ценят или боятся и ненавидят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Больше всего боялся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того, что ему непонятно или недоступно, и всячески обходил это: от страстей до воображения; но при любом подходящем случае пытался найти ключ к этому, пока непостижимому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http://live4fun.ru/pictures/img_37744038_8558_1.jpg"/>
          <p:cNvPicPr/>
          <p:nvPr/>
        </p:nvPicPr>
        <p:blipFill>
          <a:blip r:embed="rId1"/>
          <a:stretch/>
        </p:blipFill>
        <p:spPr>
          <a:xfrm>
            <a:off x="4335480" y="0"/>
            <a:ext cx="4808520" cy="3141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http://www.ljplus.ru/img4/p/i/pics3000/Oblomov-2.avi_snapshot_00.52.38__2010.11.30_23.21.10_.jpg"/>
          <p:cNvPicPr/>
          <p:nvPr/>
        </p:nvPicPr>
        <p:blipFill>
          <a:blip r:embed="rId2"/>
          <a:stretch/>
        </p:blipFill>
        <p:spPr>
          <a:xfrm>
            <a:off x="4227480" y="3141720"/>
            <a:ext cx="4916520" cy="3716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img.labirint.ru/images/news/5541_1279280583.jpg"/>
          <p:cNvPicPr/>
          <p:nvPr/>
        </p:nvPicPr>
        <p:blipFill>
          <a:blip r:embed="rId3"/>
          <a:stretch/>
        </p:blipFill>
        <p:spPr>
          <a:xfrm>
            <a:off x="0" y="0"/>
            <a:ext cx="485316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Alexsandrit</cp:lastModifiedBy>
  <dcterms:modified xsi:type="dcterms:W3CDTF">2014-01-17T22:39:35Z</dcterms:modified>
  <cp:revision>30</cp:revision>
  <dc:subject/>
  <dc:title>ОБЛОМОВ И ШТОЛЬЦ</dc:title>
</cp:coreProperties>
</file>